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274-2176-44EC-9277-565C8FB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144-5566-4244-AF83-2B551844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782-F914-4067-A5BF-5496D94F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63E-0144-4514-B55B-E195032B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C099-4742-4C99-83B9-171ED2EC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232-48CA-4C02-A649-274C33F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6687-027B-4A79-B7B4-FDF2FFB9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67DB-5565-44AA-8E3A-B0A7E3C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F81-E1CE-44AA-9230-B2ED6F7A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280F-60C9-4B45-BFC9-A0DDC0FA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65F-C72D-4AC8-9C51-470B36F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48A-1775-42EF-88B7-AAE3C6E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1E5-8DB3-42B7-81DD-984F8D4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0498-999A-4F93-AF2C-A93ECA0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F933-B05D-4239-9B01-6239712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9D2-7280-4876-B6C2-7CC9156E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BFFC-6267-41AD-9BD5-EF29D3D5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10EE-5E10-4AE4-A9FD-DED08D1C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01BC-6F3C-4A22-BE0D-0B1893B1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1462-13C5-4C63-AAAA-375A2633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63FE-FC56-4F97-8A07-CB8870E1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C7D6-21C6-400C-8DAA-DEE26BF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B72-5E29-41DC-AE4C-25DFD1B6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4714-3353-48EA-8BE9-4084A2C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89F8-2822-4B84-9440-6724CE4B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0031-6524-45B5-AD0B-EF4FBDA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EF04-9CBF-4101-89BD-21C47AFB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1DB6-8699-4E4D-9478-DF0289CE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9117-74B6-434F-9A27-F824F492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49EB-ECDD-4982-90B6-C1DD97FF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64E5-DE8A-4664-9F59-266A1F70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A02C4-9FB9-4D79-9EAE-5F32D09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D20C-3DBA-4409-B83E-9629B215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0DF-A268-44A2-9EE7-208BC28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7853-9F0A-4D10-8D69-D943786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C8A1-9CFA-420E-B9BC-83B05CE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117D-91FA-4662-8B46-F694CF9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82789-F878-4AE3-8DE4-162F097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9A4C-7E66-4761-8A26-FE193E4F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5CE78-EECB-44FF-893A-1FBCA32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D063-FBDB-444A-91DF-FC2A958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7E3E-3757-4965-96E7-6B2408D5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8CA1-9C2B-49B2-895A-D91DD245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BFC3-7700-4891-B865-2C2CE8BF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8D9-B249-41FC-A6CD-7291910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5A3B-ABC7-4F28-8C9E-1DD8437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0E06-E32D-40AD-BC82-6B666B8A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BDC2-4334-4E1E-8FF9-DD027527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71323-A7EA-48B4-B30E-ED3A9177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5285-7DF9-421A-9666-FA2E34E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E900-FEB9-4273-9E0B-5FA0398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D9D3-465E-4C98-B0D4-7D92E19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B6D7-2860-4804-B22C-F148A17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4EE3-367A-48AD-B898-7EDA2EC2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2C02-C60C-4EF6-9B5B-2C2B882E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963-AD07-4084-97C2-B343B589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CC66-935F-471A-AF4F-1795B18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7EF-C50A-4BE4-B325-541C7DE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39F-BE2A-4889-A1E5-5495D53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01B-2D88-4505-9C2E-746C6A04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FA56-92CB-4A71-BD00-E3E3C2D326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DA82-DA07-483A-8A4E-5F80336640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2A4-F0AA-4B4D-9085-3557BFA537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B8E4-6C5D-4DCD-81CC-0AADC350D3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572-0597-43F5-A38D-852D7BADFB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diana.edu/~wts/pamphlets/thesis_statement.s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10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World 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quir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 pages double spac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with a </a:t>
            </a: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thesis statemen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ody, 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itle p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renthetical ci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orks Ci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ource requir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 different sour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ok, periodical, encycloped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LIABLE websi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our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iography Reference Ban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lier Onl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iography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to avoid Plagiaris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a direct quote…cite it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n doubt, cite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D first…then write it in your own wor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40:45Z</dcterms:created>
  <dc:creator>jalbright</dc:creator>
  <dc:description/>
  <dc:language>en-US</dc:language>
  <cp:lastModifiedBy>jalbright</cp:lastModifiedBy>
  <dcterms:modified xsi:type="dcterms:W3CDTF">2010-11-12T15:07:18Z</dcterms:modified>
  <cp:revision>15</cp:revision>
  <dc:subject/>
  <dc:title>World History</dc:title>
</cp:coreProperties>
</file>